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00101-7385-4DF6-9958-F89C285CC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DFCBD-75A2-4978-8241-04B042174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77FAE-E989-4052-ACFC-25853144B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FC463-68BD-456A-8E47-F285F3012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49BC4-73C3-4473-ABBD-517C7D579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89151-B46D-453B-8713-67A4E99B0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204FE-5DDF-4E7A-8D90-B2C0E87CF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6D2D8-4BA1-4423-B70D-F1A826AB3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3E2DD-A210-4BAE-800D-525CDB5F8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D23C8-6A18-46A8-B3D2-15FC720AC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7E253-7242-4454-9672-85C63A0DA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5EF17-546A-4D55-A0C1-7B86D8D59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9C8B-2144-456B-991B-370097D966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y Map</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y Salazar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Children Of The S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ldren Of The Sea</a:t>
            </a:r>
            <a:endParaRPr b="0" lang="en-US" sz="4400" spc="-1" strike="noStrike">
              <a:solidFill>
                <a:srgbClr val="000000"/>
              </a:solidFill>
              <a:latin typeface="Arial"/>
            </a:endParaRPr>
          </a:p>
        </p:txBody>
      </p:sp>
      <p:pic>
        <p:nvPicPr>
          <p:cNvPr id="45" name="" descr=""/>
          <p:cNvPicPr/>
          <p:nvPr/>
        </p:nvPicPr>
        <p:blipFill>
          <a:blip r:embed="rId1"/>
          <a:stretch/>
        </p:blipFill>
        <p:spPr>
          <a:xfrm>
            <a:off x="155520" y="46080"/>
            <a:ext cx="9753480" cy="7315200"/>
          </a:xfrm>
          <a:prstGeom prst="rect">
            <a:avLst/>
          </a:prstGeom>
          <a:ln w="0">
            <a:noFill/>
          </a:ln>
        </p:spPr>
      </p:pic>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by Edwidge Dantic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lived in Hait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s</a:t>
            </a:r>
            <a:endParaRPr b="0" lang="en-US" sz="4400" spc="-1" strike="noStrike">
              <a:solidFill>
                <a:srgbClr val="000000"/>
              </a:solidFill>
              <a:latin typeface="Arial"/>
            </a:endParaRPr>
          </a:p>
        </p:txBody>
      </p:sp>
      <p:pic>
        <p:nvPicPr>
          <p:cNvPr id="48" name="" descr=""/>
          <p:cNvPicPr/>
          <p:nvPr/>
        </p:nvPicPr>
        <p:blipFill>
          <a:blip r:embed="rId1"/>
          <a:stretch/>
        </p:blipFill>
        <p:spPr>
          <a:xfrm>
            <a:off x="155520" y="46080"/>
            <a:ext cx="9753480" cy="5857920"/>
          </a:xfrm>
          <a:prstGeom prst="rect">
            <a:avLst/>
          </a:prstGeom>
          <a:ln w="0">
            <a:noFill/>
          </a:ln>
        </p:spPr>
      </p:pic>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ir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am Rodg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Girls Mother &amp; fa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228600"/>
            <a:ext cx="11810880" cy="70866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tting was set on Land in Hai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tting was also on a bo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1089648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ople who live in Haiti were being mistreated. They were being mistreated by the macouts. Since they were being mistreated so they decided to escape.The people were trying to escape to the U.S. They left on a boat &amp; it caused them to suffer because they had no food or supplies for them selves they didn’t even take showers, there was also no water people also got dehydrated &amp; died some just killed themsel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l Opinion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enjoyed reading this story. I have learned something good from this story, what I have learned is even if you were being hurt or mistreated don’t leave somewhere without planning it out because you don’t know what you can bump i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19:39:48Z</dcterms:created>
  <dc:creator>Administrator</dc:creator>
  <dc:description/>
  <dc:language>en-US</dc:language>
  <cp:lastModifiedBy>Administrator</cp:lastModifiedBy>
  <dcterms:modified xsi:type="dcterms:W3CDTF">2010-11-05T20:03:21Z</dcterms:modified>
  <cp:revision>2</cp:revision>
  <dc:subject/>
  <dc:title>Story Map</dc:title>
</cp:coreProperties>
</file>